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4.png" ContentType="image/png"/>
  <Override PartName="/ppt/media/image5.png" ContentType="image/png"/>
  <Override PartName="/ppt/media/image6.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move the slide</a:t>
            </a:r>
            <a:endParaRPr b="0" lang="en-US" sz="4200" spc="-1" strike="noStrike">
              <a:solidFill>
                <a:srgbClr val="65c0e0"/>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BA9E-2044-4491-897C-1BD3DE32B70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618F-093E-4ED0-AB21-BCE4C432CA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lot of different types of shirts you can wear that are religious or Satan based they can be as simple as your favorite rock band or word on a shirt. You see religious jewelry every day from cross necklaces, chains with the Jesus pieces, earrings with crosses or the star of David. Its not only students that wear the religious clothing teachers do to they wear necklaces and the earrings.     </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8263-1582-4947-92BC-94C10C65B4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cannot teach history without teaching religion.  Without religion allowed in the curriculum, students would not be able to learn about important historical events like the Crusades, the formation of India and Pakistan, and even our own country.  With religion out of history classes, students wouldn’t be able to learn about the Pilgrims and the Puritans along with Roger Williams who settled in North America to escape religious prosecution from the Church of England.  The election of John F. Kennedy, or even more recent, the attacks on September 11</a:t>
            </a:r>
            <a:r>
              <a:rPr b="0" lang="en-US" sz="1200" spc="-1" strike="noStrike" baseline="30000">
                <a:solidFill>
                  <a:srgbClr val="000000"/>
                </a:solidFill>
                <a:latin typeface="Calibri"/>
              </a:rPr>
              <a:t>th </a:t>
            </a:r>
            <a:r>
              <a:rPr b="0" lang="en-US" sz="1200" spc="-1" strike="noStrike">
                <a:solidFill>
                  <a:srgbClr val="000000"/>
                </a:solidFill>
                <a:latin typeface="Calibri"/>
              </a:rPr>
              <a:t>would be left out of school curriculums due to much of their religious importance.  Many debate topics like abortion, stem-cell research, and gay rights would also be cut from student learning.  A gap in this religious education in social studies and history classes would create a substantial lack in a realistic view of our world (Passe &amp; Willox, 103).  According to an article written by Rosenblith and Bailey, a way to keep this from happening could be the formation of a World Religions History class as a social studies elective in schools (97-108).  This way, the school is not forcing religion on students, but is instead allowing them to explore the many different religions and learn the major impacts they hold on the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4D4D-B020-44BB-AD40-2C0E90DB0EE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ndment states that “Congress shall make no law respecting an establishment of religion, or prohibiting the free exercise thereof”.  Although this means that no specific religion can be accustomed in an environment, the First Amendment says nothing of actually </a:t>
            </a:r>
            <a:r>
              <a:rPr b="0" i="1" lang="en-US" sz="1200" spc="-1" strike="noStrike">
                <a:solidFill>
                  <a:srgbClr val="000000"/>
                </a:solidFill>
                <a:latin typeface="Calibri"/>
              </a:rPr>
              <a:t>teaching</a:t>
            </a:r>
            <a:r>
              <a:rPr b="0" lang="en-US" sz="1200" spc="-1" strike="noStrike">
                <a:solidFill>
                  <a:srgbClr val="000000"/>
                </a:solidFill>
                <a:latin typeface="Calibri"/>
              </a:rPr>
              <a:t> religion in schools.  Also, when the Bill of Rights was written in 1789, there were no state-authorized schools.  Schools then were run by the church and religious education was their primary importance (Passe &amp; Willox, 102-103).  Once public schools were created and after a series of rulings, the Supreme Court ruled the Establishment Clause of the First Amendment to these schools which then prohibited the promotion and celebration of particular religions.  Once schools began taking out religious prayers and themes from their classrooms, they also began to take out religion from the curriculum altogether (Passe &amp; Willox, 103).  Parents seemed to be fine with this transition because they only cared about their children learning their own religion, which could be done at what is now known as Sunday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DC96-4E40-45C5-A967-634726014A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believe that America may not be ready to teach religion in schools.  Today, many teachers in public schools lack the knowledge to teach about religion.  The lack of teacher knowledge in this field of study leads to much bias thought, misconceptions, and stereotyping (Passe &amp; Willox, 104).  As quoted by Passe and Willox, it would be like “the blind leading the blind”.  For teachers to be able to educate their students on religion, they must be able to complete some kind of training program relying on the expansion of high-quality curriculum materials for the teacher training and also for use in the classroom.  This, of course, would order much government investment and most likely some foundations, as well (Passe &amp; Willox, 104).   Without this investment, to even think about putting religion into schools curriculums would just be out of the question.  Teachers need the training before they can teach the subject of religion, just like any other school subject.  It would be like sending an individual to do brain surgery with going to medical school first, it just would not work.  Even after the teacher training programs, teacher knowledge, dispositions, and skills for teaching religion would still need to be carefully considered by the larger educational community and the general public before it is put into schools (Rosenblith &amp; Bailey 108-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C816-3E88-408C-9806-9DF9AB33E5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earch acquired along with real life situations found proves that religion can both positively and negatively affect students.  The object is to get to the point where religion has a greater positive affect than a negative affect.  This can be accomplished by equality.  Equality is key.  Religious equality will maximize the positive impact of religion while diminishing the negative ones.  If no change is made, the negative effects will only get worse, not better.  By enforcing religious equality through our policy statement, we are hoping to make the learning environment a much better place, which in turn will make our students better.</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BFAF-AF79-402B-BBFB-C531030661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69C7-815F-418F-A54D-0B56AC427C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ndment gives us Religious freedom and the freedom of speech and the government is not suppose to interfere. </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31A7-D8A6-4EA2-9123-8FD2A85EF1A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54, the phrase “under God” was inserted in the Pledge of Allegiance, which is required to be said before school starts (Kao).  Since the addition of the phrase, debates have raged as to whether or not the phrase is secular or religious.  There is no doubt that this is a religious reference, proved by a quote by the President at the time.  Dwight D. Eisenhower said ““[M]illions of our school children will daily proclaim in every city and town, every village and rural schoolhouse, the dedication of our nation and our people to the Almighty” (Kao).  This statement proves beyond a reason of a doubt that the phrase “under God” is in fact a religious reference.  Since it is a religious reference, it is unconstitutional due to the 1</a:t>
            </a:r>
            <a:r>
              <a:rPr b="0" lang="en-US" sz="1200" spc="-1" strike="noStrike" baseline="30000">
                <a:solidFill>
                  <a:srgbClr val="000000"/>
                </a:solidFill>
                <a:latin typeface="Calibri"/>
              </a:rPr>
              <a:t>st</a:t>
            </a:r>
            <a:r>
              <a:rPr b="0" lang="en-US" sz="1200" spc="-1" strike="noStrike">
                <a:solidFill>
                  <a:srgbClr val="000000"/>
                </a:solidFill>
                <a:latin typeface="Calibri"/>
              </a:rPr>
              <a:t> Amendment.  Congress cannot impose religious acts upon its citizens (LII: Constitution).  Since Congress can’t, neither can the public schools.  Our policy calls for religious equality.  We will accomplish this through not requiring participation of the saying of the pledge since we cannot take the pledge completely out of the school system.  Students may opt out.  They can leave the room, sit in the room, or even say the entire pledge and omit the “under God”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merican Flag.”  Photo.  Yglesias.  4 July 2009.  25 November 2009.  &lt;http://yglesias.thinkprogress.org/archives/2009/07/independence-day.php&gt;.</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BA8E-5121-4EAE-8C20-562CF57589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now talk about religious holidays and the affect they could have on public schools. There are 10 nationally ranked holidays that every school is guaranteed off. These are Martin Luther King Day, New Years Day, Labor Day, Christmas Day, Veterans Day, Thanksgiving Day, Presidents Day, Memorial Day, Independence Day, and Columbus Day. Not only are public schools guaranteed these national holidays off, but also private schools, businesses, government offices, banks, libraries, and post off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problem with religion is that young children are impressionable, this makes children from minority groups very vulnerable when forced to practice the majority religion. Since the majority religion in the United States is Catholic no one would feel more embarrassed and isolated than a Jewish or Muslim child forced to participate in or remove himself from Christian-oriented activities in school (Faith).  One example of Jewish children feeling targeted happened in Alabama, a family of Jewish children complained about their public schools promotion of Christian beliefs. They became the target of harassment and one of them was forced to write an essay on "Why Jesus Loves Me." At a mandatory school assembly, a Christian minister condemns to hell all who do not accept Christ (Faith).  However, students from majority groups may end up finding their own beliefs changed by school teachers because of all their influence. If this happens or the state imposes religious practices this can cause problems which then leads to argument and division, which will cause everyone’s educational experience to suffer (Fa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7AFE-F010-4608-A872-B2FAF00D7F8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teen leading religious and education organization joined together to produce consensus guidelines on religious holidays that respect the rights of all citizens, as well as people of various faiths. In September 1995, the White House also offered guidelines, and both agreed that public schools may teach about religions and religious holidays where appropriate, but may not promote any religion (Holi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nd teachers should be allowed to have excused abscesses on those specific holidays of their religion that they wish to celebrate and the school does not give off.  Before the Indiana school district had changed its policy, an 8th grade boy had missed 9 days of school because he had to observe the holidays of his church. The school notified him that he faced expulsion because of excessive absences, and his mother was threatened with child-neglect charges. Some of his teachers even refused to allow him to make up class work and gave him zeroes for the missed work. The family filed a complaint to the Civil Rights Division and they made the school change their policy. The new policy was students will be given excused absences for observance of religious holidays, and they will be given credit for timely completion of make-up work (Religious). No Student should be forced to choose between their faith and academic stan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policy is to make all religions equal then it will only be fair and equal to no longer have a school holiday for Good Friday. This is because it is specifically a Catholic holiday; however Catholic children will have an excused absence during this day if they cho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0F44-A098-481A-9B39-A54E97A5ED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mendment - Congress shall make no law respecting an establishment of religion, or prohibiting the free exercise thereof; or abridging the freedom of speech, or of the press; or the right of the people peaceably to assemble, and to petition the government for a redress of grievances. In other words, the government can not tell school systems or anyone in general that they have to abide by a certain religion. It is belatedly stating that children, teenagers, and adults alike can follow whichever religion they like and practice their beliefs no matter what the setting may be. It is an individual’s choice weather or not they choose to vocalize or broadcast what their specific religion is even if it is in a school system or not. The way in which a school system chooses to specify the names of its breaks is up to the state government and the school system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tion of other holidays – Many school systems in today’s society are recognizing that not all teachers fall into the majority religion. Many teachers who are not Christian feel that they are losing credit for the days that other religions have off. First we have to recognize that they have their own holidays for their own religions. Next, by letting them take those specific days off without counting it against them would not only be beneficial for them to practice their beliefs, but only fair.  For example, if you are Muslim and you wanted to take the traditional Muslim holidays off you should be able to without losing a sick day or a day of work others did not have off. A further issue with changing Christmas break to winter break is that each school system is represented by their specific state. Christmas is a tough holiday to argue because its break in the school system is represented by each state. The state will say for how long the school system can take off and so on. Many people will even argue that Christmas break is more for the new year and not for Christmas so they have to take off a week or longer. Nothing happens overnight and unfortunately their has to be voting that goes on to change a specific holiday breaks name. This can sometimes frustrate people because they feel that the majority is not being represented with only a small group of people voting for a change. Also, Christmas decorations is getting to be more and more of a problem among schools. At a young age its gingerbread houses, then secret Santa, then finally kids are not allowed to draw Santa’s and put them up on walls, instead they are forced to draw snowflakes. Their always being taught not to offend other students who are not Christian and because of that they in some ways have to alter their religious beliefs while in school. Christmas decorations are not meant to make kids feel bad while in school, they are simply meant to bring holiday spirit until they are let out of school for their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2601-37C3-4773-80EC-277977E76E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mas attire is now another growing problem. Usually the week before school is let out children come to school dressed with Santa hats, reindeer ears, red and green etc. They are being told that they can not dress in certain ways or offend any other students by wearing religious clothing. Many find this to be unfair because they see it as only simple fun. By having school systems crack down on all of the holiday cheer it essentially takes the fun out of preparing for their religions holiday. When I was in high school we had a tradition where the seniors would dress up as Santa Claus and elves. We would set everything up in the cafeteria where the whole school could watch and would auction off taking pictures with Santa. It was always such a great time and one of the highlights students looked forward to for their senior year. In other school systems alike many students partake in such activities. Teachers and faculty have actually supported these activities and said nothing about it while I have been in school. However, in other towns and states many students are being penalized for trying to get away with such things. In the long run however they are completely harmless and should not be focused on when there are much bigger issues in the world. </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21A3-5EFF-47D4-88F7-C567DAB60B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mas break is now called “winter break” – some people who are not Christian may feel as if they are losing valuable working days and should be credited for them while others argue it is for the new year and not for Christmas, however it is a break for everyone alike. Many people feel that even though the majority of the population is Christian it is still unnecessary to make a break be centered around a specific religious holiday. Almost all Jewish holidays are not credited as days off and there is no specific break for hunnaka. An interesting case about someone feeling so enraged about the name change actually took the extent to light himself on fire to make a point. He was trying to get people to listen to what he had to say about the recent switch. He felt that it was completely ridiculous for the school systems to make such a switch. He was a Christian man who wanted to prove to people that they should not switch the name of such an important holiday. If people were so angered by the Christmas break title then they should petition for a change where they receive more breaks with titles regarding their religion. He fortunately lived, but as you can see peoples opinions on the topic are extremely strong and take lots of convinc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 Burns Himself to Protest Christmas.”  Photo.  Verum Serum.  23 December 2006.  4 December 2009.  &lt;http://www.verumserum.com/?p=737&gt;.</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BDC1-1004-4BBE-8809-72792494D2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E5124-374C-4E37-A133-9FFEA0C91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A3DB5-F9F7-419A-85FE-F48ADF92B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23916-7F53-4712-8931-C825ED487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42184-3D4C-49D2-A490-17F8208AE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A9278-ED91-4519-924E-25DDF9489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A2459-F010-4A42-821C-0FFEDE4D9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22D05-4326-4E8D-886B-F8A5DB8EC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B4B92-3238-473D-A695-5CECF4FA4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8FFBC-BA2C-48FC-8833-6E56B78C0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B51AE-17C0-422C-A05D-E1655887A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0E642-3AA1-4D6C-9A66-6D973138D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179F6-3EE7-46A5-A03B-4AA5517C1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1854A-4D44-426A-B2F0-E935DF0C4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5D037-BBB6-4313-9C21-2BC9319A0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568FD-3A61-4993-B5E7-B05606390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3C5FB-4137-4393-8B2B-414350B30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13288-326F-4DB0-AC02-5162C6EE7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738D6A-CB35-47DB-BECA-67E9D2A7BE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0F06A-3716-48E5-8AB4-08C5E2374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5BED9-2597-4487-A6FA-9B48C4A69E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B8740-3E19-4B63-9B35-59272C7768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0AFF6C-D666-4240-A135-FA1FA97EF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D9AE4-37E1-4CA9-80E5-7C8CA36C0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F59551-716B-4C29-A0CE-C28B56B68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CDF5E-D658-48E0-8E8A-B784EA3B6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122A8-7707-4053-B308-FFC86EB9B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A4EB7-68F8-40B2-8FCD-26C57F478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7219B-21D7-48FB-A3F3-D41026A35D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F583B1-9F99-4295-BAAA-4DCAF8C4F7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074222-4B69-4D6B-8F0F-5F7E8E2C42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88BE04-B1C9-446B-8BF2-3C106D4C1A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621FB6-CA5E-4F04-BBAF-DD27EF40D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E5948-0852-4766-9D84-6EBF3A48B7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8BE8-DCE8-4858-B9EE-94AB50231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E3963D-8C05-48BA-A363-5F99B7028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B5895-6095-48F8-897B-620C42E35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21231-84AE-4C1B-A87C-9700A7293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47890-D2C5-454B-BA08-E5AAFE802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F3949-DA99-4C30-ADE3-924417F2B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60EFA-6BDA-4E59-BF81-39852D5EC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5E2F4F-9B2D-4700-BC33-4A28B0F42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25945B-D5F5-48B8-BD62-936D63D2B6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CD66E9-4F62-441E-91AF-4461DB9738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0CD12B-3EF4-415D-B4A6-DB03338400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6E69E-5B9A-49E7-A1BF-698F517EC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FCB218-5081-4558-A836-E6760D993E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10CB09-B351-4E28-9084-1AF74D139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9039C-7419-4C57-9660-BD141B1A5B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158E7-A522-41C1-A359-07C8FB007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E1A59B-78CC-4111-9392-831CAF5E6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4429EB-D6B5-49B3-A331-00F8DD901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2A14B8-6228-4DEF-A2BC-23C2AD6C6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5D7D1-05DB-4A15-880E-44D65197B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BA3E12-2F4D-4FA9-BEF9-46B911929F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FB75ED-E272-42BB-BD61-8D4928AAB3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3B743-D065-4E88-AA93-365E50627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2CF37B-8B93-434D-B06A-3EA7A874E9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56BE63-EBBA-45ED-BFE1-5FE54159C8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75D23-BECF-4961-8AC1-84ED25CCD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E5F10-A3B0-4B4C-B9E7-2175A87F55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27F66-0D15-49DF-88B0-4547E75579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6C4B80-3F78-4DB5-9864-56615FE737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DEC8B6-344C-4EE4-97BE-AE82BCABA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B4D08-3C02-412F-B5A0-97DF728A3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6827D-682B-4795-B475-D5D9BA792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8EF7F-F478-4FEB-8DBB-B2CB8FCAD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7A31-A4A8-4D7A-AA49-111F40F6B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AD762D-C6F6-4F3B-9FA3-A92BB515E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46EF4F-F10E-476A-8705-EB29A92489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4453F2-933E-48A5-9B1C-1B3D49549B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EEEBCC-DDB8-4556-93DE-3499F9053F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9271A-EE72-438A-A3FA-3EBB8FB0DC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C6DD40-331E-4BB6-8601-0D10C3984E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00F7B1-3B16-4FF9-8D9E-33C58D2525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152B4-03B4-4F50-8A77-18B62CDDD5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021987-43AE-4372-A00E-64D13E960A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8AAE8-C230-483D-98EB-40C601656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6994-566F-461B-8E8A-9EF2F1B3C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FAFFA-61ED-405D-9D81-800D1BEC7D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7DB75-8238-4736-80B2-0F2A1F906D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EB638C-BC34-4604-81BD-CF20E6CBA4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7035DB-5CD0-4E92-BB66-3231B73636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C7F741-285E-4327-B2AF-029700C9EA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69842-EB19-402A-A65B-EDDD6AD39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C94D-90EF-41BB-B500-6202B291368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006b86"/>
              </a:gs>
              <a:gs pos="100000">
                <a:srgbClr val="7bd1f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39D8-5DAE-4411-8567-30F453B38E73}"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96C2-E677-4DB1-9945-11E40C1D5CE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006b86"/>
              </a:gs>
              <a:gs pos="100000">
                <a:srgbClr val="7bd1f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3FA4-BD88-437C-8FC1-C94E7DF7932E}"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FF1F-5ACE-41B6-9342-41D08ADAC5B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5324-0535-4709-9E68-3DE4EEA26335}"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23CC-2054-43D1-877E-1982DBF1519B}"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390600" y="298440"/>
            <a:ext cx="8985240" cy="1481040"/>
          </a:xfrm>
          <a:prstGeom prst="rect">
            <a:avLst/>
          </a:prstGeom>
          <a:ln w="0">
            <a:noFill/>
          </a:ln>
        </p:spPr>
      </p:pic>
      <p:pic>
        <p:nvPicPr>
          <p:cNvPr id="309" name="Picture 47" descr="C:\Program Files\Microsoft Office\MEDIA\CAGCAT10\j0217698.wmf"/>
          <p:cNvPicPr/>
          <p:nvPr/>
        </p:nvPicPr>
        <p:blipFill>
          <a:blip r:embed="rId2"/>
          <a:stretch/>
        </p:blipFill>
        <p:spPr>
          <a:xfrm>
            <a:off x="907920" y="3121200"/>
            <a:ext cx="2725920" cy="231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450720" y="262080"/>
            <a:ext cx="8242560" cy="1407960"/>
          </a:xfrm>
          <a:prstGeom prst="rect">
            <a:avLst/>
          </a:prstGeom>
          <a:ln w="0">
            <a:noFill/>
          </a:ln>
        </p:spPr>
      </p:pic>
      <p:sp>
        <p:nvSpPr>
          <p:cNvPr id="336" name=""/>
          <p:cNvSpPr txBox="1"/>
          <p:nvPr/>
        </p:nvSpPr>
        <p:spPr>
          <a:xfrm>
            <a:off x="457200" y="1722600"/>
            <a:ext cx="8229600" cy="4525920"/>
          </a:xfrm>
          <a:prstGeom prst="rect">
            <a:avLst/>
          </a:prstGeom>
          <a:noFill/>
          <a:ln w="0">
            <a:noFill/>
          </a:ln>
        </p:spPr>
        <p:txBody>
          <a:bodyPr anchor="t">
            <a:normAutofit/>
          </a:bodyPr>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Satan and religious based  shirts </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Religious Jewelry</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eachers clothing and religious meanings  </a:t>
            </a:r>
            <a:endParaRPr b="0" lang="en-US" sz="3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262080"/>
            <a:ext cx="8242560" cy="1407960"/>
          </a:xfrm>
          <a:prstGeom prst="rect">
            <a:avLst/>
          </a:prstGeom>
          <a:ln w="0">
            <a:noFill/>
          </a:ln>
        </p:spPr>
      </p:pic>
      <p:sp>
        <p:nvSpPr>
          <p:cNvPr id="338" name=""/>
          <p:cNvSpPr txBox="1"/>
          <p:nvPr/>
        </p:nvSpPr>
        <p:spPr>
          <a:xfrm>
            <a:off x="456840" y="1722600"/>
            <a:ext cx="8458200" cy="4906800"/>
          </a:xfrm>
          <a:prstGeom prst="rect">
            <a:avLst/>
          </a:prstGeom>
          <a:noFill/>
          <a:ln w="0">
            <a:noFill/>
          </a:ln>
        </p:spPr>
        <p:txBody>
          <a:bodyPr anchor="t">
            <a:normAutofit/>
          </a:bodyPr>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istorical events left out, unlearned</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formation of our country</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ebate topics</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cks a realistic view of the world (Passe &amp; Willox, 103 )</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orld religions classes (Rosenblith &amp; Bailey, 97-108)</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390600" y="182520"/>
            <a:ext cx="8351640" cy="1487520"/>
          </a:xfrm>
          <a:prstGeom prst="rect">
            <a:avLst/>
          </a:prstGeom>
          <a:ln w="0">
            <a:noFill/>
          </a:ln>
        </p:spPr>
      </p:pic>
      <p:sp>
        <p:nvSpPr>
          <p:cNvPr id="340" name=""/>
          <p:cNvSpPr txBox="1"/>
          <p:nvPr/>
        </p:nvSpPr>
        <p:spPr>
          <a:xfrm>
            <a:off x="457200" y="1722600"/>
            <a:ext cx="8229600" cy="4525920"/>
          </a:xfrm>
          <a:prstGeom prst="rect">
            <a:avLst/>
          </a:prstGeom>
          <a:noFill/>
          <a:ln w="0">
            <a:noFill/>
          </a:ln>
        </p:spPr>
        <p:txBody>
          <a:bodyPr anchor="t">
            <a:normAutofit fontScale="96000"/>
          </a:bodyPr>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a:t>
            </a:r>
            <a:r>
              <a:rPr b="0" lang="en-US" sz="3200" spc="-1" strike="noStrike" baseline="30000">
                <a:solidFill>
                  <a:srgbClr val="ffffff"/>
                </a:solidFill>
                <a:latin typeface="Century Gothic"/>
              </a:rPr>
              <a:t>st</a:t>
            </a:r>
            <a:r>
              <a:rPr b="0" lang="en-US" sz="3200" spc="-1" strike="noStrike">
                <a:solidFill>
                  <a:srgbClr val="ffffff"/>
                </a:solidFill>
                <a:latin typeface="Century Gothic"/>
              </a:rPr>
              <a:t> Amendment </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chools were not state-authorized </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reation of public schools lead to application of Establishment Clause in schools as well </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ligion taken from curriculum altogether</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unday schools (Passe &amp; Willox, 102-103)</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0" y="1752480"/>
            <a:ext cx="4038480" cy="4525920"/>
          </a:xfrm>
          <a:prstGeom prst="rect">
            <a:avLst/>
          </a:prstGeom>
          <a:noFill/>
          <a:ln w="0">
            <a:noFill/>
          </a:ln>
        </p:spPr>
        <p:txBody>
          <a:bodyPr anchor="t">
            <a:normAutofit fontScale="98000"/>
          </a:bodyPr>
          <a:p>
            <a:pPr marL="438840" indent="-374760">
              <a:spcBef>
                <a:spcPts val="700"/>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Bias thought, misconceptions, and stereotyping (Passe &amp; Willox, 104)</a:t>
            </a:r>
            <a:endParaRPr b="0" lang="en-US" sz="2800" spc="-1" strike="noStrike">
              <a:solidFill>
                <a:srgbClr val="ffffff"/>
              </a:solidFill>
              <a:latin typeface="Century Gothic"/>
            </a:endParaRPr>
          </a:p>
          <a:p>
            <a:pPr marL="438840" indent="-374760">
              <a:spcBef>
                <a:spcPts val="700"/>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eacher training programs (Passe &amp; Willox, 104)</a:t>
            </a:r>
            <a:endParaRPr b="0" lang="en-US" sz="2800" spc="-1" strike="noStrike">
              <a:solidFill>
                <a:srgbClr val="ffffff"/>
              </a:solidFill>
              <a:latin typeface="Century Gothic"/>
            </a:endParaRPr>
          </a:p>
          <a:p>
            <a:pPr marL="438840" indent="-374760">
              <a:spcBef>
                <a:spcPts val="700"/>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Government investment (Passe &amp; Willox, 104)</a:t>
            </a:r>
            <a:endParaRPr b="0" lang="en-US" sz="2800" spc="-1" strike="noStrike">
              <a:solidFill>
                <a:srgbClr val="ffffff"/>
              </a:solidFill>
              <a:latin typeface="Century Gothic"/>
            </a:endParaRPr>
          </a:p>
          <a:p>
            <a:pPr marL="438840" indent="-374760">
              <a:spcBef>
                <a:spcPts val="700"/>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pic>
        <p:nvPicPr>
          <p:cNvPr id="343" name="Picture 2" descr="C:\Program Files\Microsoft Office\MEDIA\CAGCAT10\j0301252.wmf"/>
          <p:cNvPicPr/>
          <p:nvPr/>
        </p:nvPicPr>
        <p:blipFill>
          <a:blip r:embed="rId2"/>
          <a:stretch/>
        </p:blipFill>
        <p:spPr>
          <a:xfrm>
            <a:off x="609480" y="2362320"/>
            <a:ext cx="3511800" cy="34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450720" y="237960"/>
            <a:ext cx="8242560" cy="1432080"/>
          </a:xfrm>
          <a:prstGeom prst="rect">
            <a:avLst/>
          </a:prstGeom>
          <a:ln w="0">
            <a:noFill/>
          </a:ln>
        </p:spPr>
      </p:pic>
      <p:sp>
        <p:nvSpPr>
          <p:cNvPr id="345" name=""/>
          <p:cNvSpPr txBox="1"/>
          <p:nvPr/>
        </p:nvSpPr>
        <p:spPr>
          <a:xfrm>
            <a:off x="456840" y="2133720"/>
            <a:ext cx="8077320" cy="4114800"/>
          </a:xfrm>
          <a:prstGeom prst="rect">
            <a:avLst/>
          </a:prstGeom>
          <a:noFill/>
          <a:ln w="0">
            <a:noFill/>
          </a:ln>
        </p:spPr>
        <p:txBody>
          <a:bodyPr anchor="t">
            <a:normAutofit/>
          </a:bodyPr>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search proves religion both negatively and positively affects students</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Equality is key</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f no change is made, negative effects will only get worse </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158760"/>
            <a:ext cx="8242560" cy="1511280"/>
          </a:xfrm>
          <a:prstGeom prst="rect">
            <a:avLst/>
          </a:prstGeom>
          <a:ln w="0">
            <a:noFill/>
          </a:ln>
        </p:spPr>
      </p:pic>
      <p:sp>
        <p:nvSpPr>
          <p:cNvPr id="31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Recognize all religions</a:t>
            </a: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No promoting of any individual religion</a:t>
            </a: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iversity will not be ignored</a:t>
            </a: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quality is </a:t>
            </a:r>
            <a:r>
              <a:rPr b="0" lang="en-US" sz="3000" spc="-1" strike="noStrike" u="sng">
                <a:solidFill>
                  <a:srgbClr val="ffffff"/>
                </a:solidFill>
                <a:uFillTx/>
                <a:latin typeface="Century Gothic"/>
              </a:rPr>
              <a:t>key</a:t>
            </a: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237960"/>
            <a:ext cx="8242560" cy="1432080"/>
          </a:xfrm>
          <a:prstGeom prst="rect">
            <a:avLst/>
          </a:prstGeom>
          <a:ln w="0">
            <a:noFill/>
          </a:ln>
        </p:spPr>
      </p:pic>
      <p:sp>
        <p:nvSpPr>
          <p:cNvPr id="313" name=""/>
          <p:cNvSpPr txBox="1"/>
          <p:nvPr/>
        </p:nvSpPr>
        <p:spPr>
          <a:xfrm>
            <a:off x="456840" y="2286000"/>
            <a:ext cx="8458200" cy="4038480"/>
          </a:xfrm>
          <a:prstGeom prst="rect">
            <a:avLst/>
          </a:prstGeom>
          <a:noFill/>
          <a:ln w="0">
            <a:noFill/>
          </a:ln>
        </p:spPr>
        <p:txBody>
          <a:bodyPr anchor="t">
            <a:normAutofit/>
          </a:bodyPr>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t>
            </a:r>
            <a:r>
              <a:rPr b="0" lang="en-US" sz="3600" spc="-1" strike="noStrike">
                <a:solidFill>
                  <a:srgbClr val="ffffff"/>
                </a:solidFill>
                <a:latin typeface="Century Gothic"/>
              </a:rPr>
              <a:t>Congress shall make no law</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a:t>
            </a:r>
            <a:r>
              <a:rPr b="0" lang="en-US" sz="3600" spc="-1" strike="noStrike">
                <a:solidFill>
                  <a:srgbClr val="ffffff"/>
                </a:solidFill>
                <a:latin typeface="Century Gothic"/>
              </a:rPr>
              <a:t>respecting an establishment of religion,</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a:t>
            </a:r>
            <a:r>
              <a:rPr b="0" lang="en-US" sz="3600" spc="-1" strike="noStrike">
                <a:solidFill>
                  <a:srgbClr val="ffffff"/>
                </a:solidFill>
                <a:latin typeface="Century Gothic"/>
              </a:rPr>
              <a:t>or prohibiting the free </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xercise thereof” (LII: Constitution)</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262080"/>
            <a:ext cx="8242560" cy="1407960"/>
          </a:xfrm>
          <a:prstGeom prst="rect">
            <a:avLst/>
          </a:prstGeom>
          <a:ln w="0">
            <a:noFill/>
          </a:ln>
        </p:spPr>
      </p:pic>
      <p:sp>
        <p:nvSpPr>
          <p:cNvPr id="315" name=""/>
          <p:cNvSpPr txBox="1"/>
          <p:nvPr/>
        </p:nvSpPr>
        <p:spPr>
          <a:xfrm>
            <a:off x="380520" y="2514600"/>
            <a:ext cx="4038840" cy="312408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Government mandates it in schools (Kao)</a:t>
            </a: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Unconstitutional – 1</a:t>
            </a:r>
            <a:r>
              <a:rPr b="0" lang="en-US" sz="2600" spc="-1" strike="noStrike" baseline="30000">
                <a:solidFill>
                  <a:srgbClr val="ffffff"/>
                </a:solidFill>
                <a:latin typeface="Century Gothic"/>
              </a:rPr>
              <a:t>st</a:t>
            </a:r>
            <a:r>
              <a:rPr b="0" lang="en-US" sz="2600" spc="-1" strike="noStrike">
                <a:solidFill>
                  <a:srgbClr val="ffffff"/>
                </a:solidFill>
                <a:latin typeface="Century Gothic"/>
              </a:rPr>
              <a:t> Amendment</a:t>
            </a: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Equality – No forced participation</a:t>
            </a:r>
            <a:endParaRPr b="0" lang="en-US" sz="2600" spc="-1" strike="noStrike">
              <a:solidFill>
                <a:srgbClr val="ffffff"/>
              </a:solidFill>
              <a:latin typeface="Century Gothic"/>
            </a:endParaRPr>
          </a:p>
        </p:txBody>
      </p:sp>
      <p:pic>
        <p:nvPicPr>
          <p:cNvPr id="316" name="Picture 2" descr=""/>
          <p:cNvPicPr/>
          <p:nvPr/>
        </p:nvPicPr>
        <p:blipFill>
          <a:blip r:embed="rId2"/>
          <a:stretch/>
        </p:blipFill>
        <p:spPr>
          <a:xfrm>
            <a:off x="4648320" y="2639880"/>
            <a:ext cx="4038480" cy="292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262080"/>
            <a:ext cx="8242560" cy="1407960"/>
          </a:xfrm>
          <a:prstGeom prst="rect">
            <a:avLst/>
          </a:prstGeom>
          <a:ln w="0">
            <a:noFill/>
          </a:ln>
        </p:spPr>
      </p:pic>
      <p:sp>
        <p:nvSpPr>
          <p:cNvPr id="318" name=""/>
          <p:cNvSpPr txBox="1"/>
          <p:nvPr/>
        </p:nvSpPr>
        <p:spPr>
          <a:xfrm>
            <a:off x="456840" y="1981080"/>
            <a:ext cx="8458200" cy="4525920"/>
          </a:xfrm>
          <a:prstGeom prst="rect">
            <a:avLst/>
          </a:prstGeom>
          <a:noFill/>
          <a:ln w="0">
            <a:noFill/>
          </a:ln>
        </p:spPr>
        <p:txBody>
          <a:bodyPr anchor="t">
            <a:normAutofit/>
          </a:bodyPr>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10 National Holidays</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hildren are impressionable (Faith)</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Minorities can fell isolated and embarrassed</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ducation can suffer</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237960"/>
            <a:ext cx="8242560" cy="1432080"/>
          </a:xfrm>
          <a:prstGeom prst="rect">
            <a:avLst/>
          </a:prstGeom>
          <a:ln w="0">
            <a:noFill/>
          </a:ln>
        </p:spPr>
      </p:pic>
      <p:sp>
        <p:nvSpPr>
          <p:cNvPr id="320" name=""/>
          <p:cNvSpPr txBox="1"/>
          <p:nvPr/>
        </p:nvSpPr>
        <p:spPr>
          <a:xfrm>
            <a:off x="456840" y="1722600"/>
            <a:ext cx="5181480" cy="4525920"/>
          </a:xfrm>
          <a:prstGeom prst="rect">
            <a:avLst/>
          </a:prstGeom>
          <a:noFill/>
          <a:ln w="0">
            <a:noFill/>
          </a:ln>
        </p:spPr>
        <p:txBody>
          <a:bodyPr anchor="t">
            <a:normAutofit/>
          </a:bodyPr>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ligious holidays not promoted (Holiday)</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xcused absences</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No Good Friday</a:t>
            </a:r>
            <a:endParaRPr b="0" lang="en-US" sz="3600" spc="-1" strike="noStrike">
              <a:solidFill>
                <a:srgbClr val="ffffff"/>
              </a:solidFill>
              <a:latin typeface="Century Gothic"/>
            </a:endParaRPr>
          </a:p>
        </p:txBody>
      </p:sp>
      <p:pic>
        <p:nvPicPr>
          <p:cNvPr id="321" name="Picture 3" descr="C:\Program Files\Microsoft Office\MEDIA\CAGCAT10\j0183328.wmf"/>
          <p:cNvPicPr/>
          <p:nvPr/>
        </p:nvPicPr>
        <p:blipFill>
          <a:blip r:embed="rId2"/>
          <a:stretch/>
        </p:blipFill>
        <p:spPr>
          <a:xfrm>
            <a:off x="5562720" y="3276720"/>
            <a:ext cx="2992320" cy="329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0720" y="262080"/>
            <a:ext cx="8242560" cy="1407960"/>
          </a:xfrm>
          <a:prstGeom prst="rect">
            <a:avLst/>
          </a:prstGeom>
          <a:ln w="0">
            <a:noFill/>
          </a:ln>
        </p:spPr>
      </p:pic>
      <p:sp>
        <p:nvSpPr>
          <p:cNvPr id="323" name=""/>
          <p:cNvSpPr txBox="1"/>
          <p:nvPr/>
        </p:nvSpPr>
        <p:spPr>
          <a:xfrm>
            <a:off x="533520" y="1905120"/>
            <a:ext cx="4038480" cy="4525920"/>
          </a:xfrm>
          <a:prstGeom prst="rect">
            <a:avLst/>
          </a:prstGeom>
          <a:noFill/>
          <a:ln w="0">
            <a:noFill/>
          </a:ln>
        </p:spPr>
        <p:txBody>
          <a:bodyPr anchor="t">
            <a:normAutofit fontScale="94000"/>
          </a:bodyPr>
          <a:p>
            <a:pPr marL="420840" indent="-35964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a:t>
            </a:r>
            <a:r>
              <a:rPr b="0" lang="en-US" sz="3200" spc="-1" strike="noStrike" baseline="30000">
                <a:solidFill>
                  <a:srgbClr val="ffffff"/>
                </a:solidFill>
                <a:latin typeface="Century Gothic"/>
              </a:rPr>
              <a:t>st</a:t>
            </a:r>
            <a:r>
              <a:rPr b="0" lang="en-US" sz="3200" spc="-1" strike="noStrike">
                <a:solidFill>
                  <a:srgbClr val="ffffff"/>
                </a:solidFill>
                <a:latin typeface="Century Gothic"/>
              </a:rPr>
              <a:t> Amendment</a:t>
            </a:r>
            <a:endParaRPr b="0" lang="en-US" sz="3200" spc="-1" strike="noStrike">
              <a:solidFill>
                <a:srgbClr val="ffffff"/>
              </a:solidFill>
              <a:latin typeface="Century Gothic"/>
            </a:endParaRPr>
          </a:p>
          <a:p>
            <a:pPr marL="420840" indent="-35964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cognition of other holidays (Anti-Christmas)</a:t>
            </a:r>
            <a:endParaRPr b="0" lang="en-US" sz="3200" spc="-1" strike="noStrike">
              <a:solidFill>
                <a:srgbClr val="ffffff"/>
              </a:solidFill>
              <a:latin typeface="Century Gothic"/>
            </a:endParaRPr>
          </a:p>
          <a:p>
            <a:pPr marL="420840" indent="-35964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hristmas break is represented by each state</a:t>
            </a:r>
            <a:endParaRPr b="0" lang="en-US" sz="3200" spc="-1" strike="noStrike">
              <a:solidFill>
                <a:srgbClr val="ffffff"/>
              </a:solidFill>
              <a:latin typeface="Century Gothic"/>
            </a:endParaRPr>
          </a:p>
          <a:p>
            <a:pPr marL="420840" indent="-35964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hristmas decorations</a:t>
            </a:r>
            <a:endParaRPr b="0" lang="en-US" sz="3200" spc="-1" strike="noStrike">
              <a:solidFill>
                <a:srgbClr val="ffffff"/>
              </a:solidFill>
              <a:latin typeface="Century Gothic"/>
            </a:endParaRPr>
          </a:p>
        </p:txBody>
      </p:sp>
      <p:pic>
        <p:nvPicPr>
          <p:cNvPr id="324" name="Picture 2" descr="C:\Program Files\Microsoft Office\MEDIA\CAGCAT10\j0183290.wmf"/>
          <p:cNvPicPr/>
          <p:nvPr/>
        </p:nvPicPr>
        <p:blipFill>
          <a:blip r:embed="rId2"/>
          <a:stretch/>
        </p:blipFill>
        <p:spPr>
          <a:xfrm>
            <a:off x="5334120" y="2666880"/>
            <a:ext cx="2852640" cy="25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450720" y="298440"/>
            <a:ext cx="8242560" cy="1407960"/>
          </a:xfrm>
          <a:prstGeom prst="rect">
            <a:avLst/>
          </a:prstGeom>
          <a:ln w="0">
            <a:noFill/>
          </a:ln>
        </p:spPr>
      </p:pic>
      <p:sp>
        <p:nvSpPr>
          <p:cNvPr id="326" name=""/>
          <p:cNvSpPr txBox="1"/>
          <p:nvPr/>
        </p:nvSpPr>
        <p:spPr>
          <a:xfrm>
            <a:off x="2057400" y="1600200"/>
            <a:ext cx="5029200" cy="4449600"/>
          </a:xfrm>
          <a:prstGeom prst="rect">
            <a:avLst/>
          </a:prstGeom>
          <a:noFill/>
          <a:ln w="0">
            <a:noFill/>
          </a:ln>
        </p:spPr>
        <p:txBody>
          <a:bodyPr anchor="t">
            <a:normAutofit/>
          </a:bodyPr>
          <a:p>
            <a:pPr marL="447840" indent="-382680">
              <a:spcBef>
                <a:spcPts val="10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Christmas attire</a:t>
            </a:r>
            <a:endParaRPr b="0" lang="en-US" sz="4000" spc="-1" strike="noStrike">
              <a:solidFill>
                <a:srgbClr val="ffffff"/>
              </a:solidFill>
              <a:latin typeface="Century Gothic"/>
            </a:endParaRPr>
          </a:p>
          <a:p>
            <a:pPr marL="447840" indent="-382680">
              <a:spcBef>
                <a:spcPts val="10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Dress-up (Santa and Elves)</a:t>
            </a:r>
            <a:endParaRPr b="0" lang="en-US" sz="4000" spc="-1" strike="noStrike">
              <a:solidFill>
                <a:srgbClr val="ffffff"/>
              </a:solidFill>
              <a:latin typeface="Century Gothic"/>
            </a:endParaRPr>
          </a:p>
        </p:txBody>
      </p:sp>
      <p:sp>
        <p:nvSpPr>
          <p:cNvPr id="327" name="Tree"/>
          <p:cNvSpPr/>
          <p:nvPr/>
        </p:nvSpPr>
        <p:spPr>
          <a:xfrm>
            <a:off x="609480" y="396252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Tree"/>
          <p:cNvSpPr/>
          <p:nvPr/>
        </p:nvSpPr>
        <p:spPr>
          <a:xfrm>
            <a:off x="2590920" y="396252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Tree"/>
          <p:cNvSpPr/>
          <p:nvPr/>
        </p:nvSpPr>
        <p:spPr>
          <a:xfrm>
            <a:off x="4495680" y="396252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ree"/>
          <p:cNvSpPr/>
          <p:nvPr/>
        </p:nvSpPr>
        <p:spPr>
          <a:xfrm>
            <a:off x="6400800" y="396252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450720" y="262080"/>
            <a:ext cx="8242560" cy="1407960"/>
          </a:xfrm>
          <a:prstGeom prst="rect">
            <a:avLst/>
          </a:prstGeom>
          <a:ln w="0">
            <a:noFill/>
          </a:ln>
        </p:spPr>
      </p:pic>
      <p:sp>
        <p:nvSpPr>
          <p:cNvPr id="332" name=""/>
          <p:cNvSpPr txBox="1"/>
          <p:nvPr/>
        </p:nvSpPr>
        <p:spPr>
          <a:xfrm>
            <a:off x="457200" y="1722600"/>
            <a:ext cx="4038480" cy="452592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hristmas Break -&gt; Winter Break</a:t>
            </a: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Man lights himself on fire</a:t>
            </a:r>
            <a:endParaRPr b="0" lang="en-US" sz="2600" spc="-1" strike="noStrike">
              <a:solidFill>
                <a:srgbClr val="ffffff"/>
              </a:solidFill>
              <a:latin typeface="Century Gothic"/>
            </a:endParaRPr>
          </a:p>
        </p:txBody>
      </p:sp>
      <p:pic>
        <p:nvPicPr>
          <p:cNvPr id="333" name="Picture 2" descr=""/>
          <p:cNvPicPr/>
          <p:nvPr/>
        </p:nvPicPr>
        <p:blipFill>
          <a:blip r:embed="rId2"/>
          <a:stretch/>
        </p:blipFill>
        <p:spPr>
          <a:xfrm>
            <a:off x="4495680" y="1371600"/>
            <a:ext cx="4114800" cy="3276720"/>
          </a:xfrm>
          <a:prstGeom prst="rect">
            <a:avLst/>
          </a:prstGeom>
          <a:ln w="0">
            <a:noFill/>
          </a:ln>
        </p:spPr>
      </p:pic>
      <p:pic>
        <p:nvPicPr>
          <p:cNvPr id="334" name="Picture 3" descr=""/>
          <p:cNvPicPr/>
          <p:nvPr/>
        </p:nvPicPr>
        <p:blipFill>
          <a:blip r:embed="rId3"/>
          <a:stretch/>
        </p:blipFill>
        <p:spPr>
          <a:xfrm>
            <a:off x="304920" y="3657600"/>
            <a:ext cx="41148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9:12:31Z</dcterms:created>
  <dc:creator>Jeff</dc:creator>
  <dc:description/>
  <dc:language>en-US</dc:language>
  <cp:lastModifiedBy>Bedell Family</cp:lastModifiedBy>
  <dcterms:modified xsi:type="dcterms:W3CDTF">2010-04-15T12:19:42Z</dcterms:modified>
  <cp:revision>52</cp:revision>
  <dc:subject/>
  <dc:title>Slide 1</dc:title>
</cp:coreProperties>
</file>